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gif" ContentType="image/gif"/>
  <Override PartName="/ppt/media/image7.wmf" ContentType="image/x-wmf"/>
  <Override PartName="/ppt/media/image6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1921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c1921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CDD9C-544E-44D1-AA07-EDB6859F2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F2B5B-9B08-4CA5-9443-C02211C438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A1110-2C9E-44B6-B417-B48A030B1BD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19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00200" y="1294920"/>
            <a:ext cx="72388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600200" y="3643560"/>
            <a:ext cx="72388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192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00200" y="1294920"/>
            <a:ext cx="3532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09640" y="1294920"/>
            <a:ext cx="3532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600200" y="3643560"/>
            <a:ext cx="3532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309640" y="3643560"/>
            <a:ext cx="3532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192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600200" y="1294920"/>
            <a:ext cx="233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47840" y="1294920"/>
            <a:ext cx="233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95480" y="1294920"/>
            <a:ext cx="233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600200" y="3643560"/>
            <a:ext cx="233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047840" y="3643560"/>
            <a:ext cx="233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95480" y="3643560"/>
            <a:ext cx="233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192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600200" y="1294920"/>
            <a:ext cx="7238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192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600200" y="1294920"/>
            <a:ext cx="7238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192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600200" y="1294920"/>
            <a:ext cx="3532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309640" y="1294920"/>
            <a:ext cx="3532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192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600200" y="456840"/>
            <a:ext cx="72388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192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00200" y="1294920"/>
            <a:ext cx="3532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309640" y="1294920"/>
            <a:ext cx="3532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600200" y="3643560"/>
            <a:ext cx="3532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192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600200" y="1294920"/>
            <a:ext cx="72388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192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00200" y="1294920"/>
            <a:ext cx="3532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09640" y="1294920"/>
            <a:ext cx="3532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09640" y="3643560"/>
            <a:ext cx="3532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192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00200" y="1294920"/>
            <a:ext cx="3532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09640" y="1294920"/>
            <a:ext cx="3532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600200" y="3643560"/>
            <a:ext cx="72388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192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00200" y="1294920"/>
            <a:ext cx="72388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600200" y="3643560"/>
            <a:ext cx="72388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192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00200" y="1294920"/>
            <a:ext cx="3532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09640" y="1294920"/>
            <a:ext cx="3532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600200" y="3643560"/>
            <a:ext cx="3532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309640" y="3643560"/>
            <a:ext cx="3532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192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00200" y="1294920"/>
            <a:ext cx="233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47840" y="1294920"/>
            <a:ext cx="233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495480" y="1294920"/>
            <a:ext cx="233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600200" y="3643560"/>
            <a:ext cx="233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047840" y="3643560"/>
            <a:ext cx="233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495480" y="3643560"/>
            <a:ext cx="233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192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600200" y="1294920"/>
            <a:ext cx="7238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19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00200" y="1294920"/>
            <a:ext cx="3532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309640" y="1294920"/>
            <a:ext cx="3532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192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600200" y="456840"/>
            <a:ext cx="72388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192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600200" y="1294920"/>
            <a:ext cx="3532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309640" y="1294920"/>
            <a:ext cx="3532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600200" y="3643560"/>
            <a:ext cx="3532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19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00200" y="1294920"/>
            <a:ext cx="3532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09640" y="1294920"/>
            <a:ext cx="3532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09640" y="3643560"/>
            <a:ext cx="3532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c19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00200" y="1294920"/>
            <a:ext cx="3532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09640" y="1294920"/>
            <a:ext cx="3532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600200" y="3643560"/>
            <a:ext cx="72388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192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c192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00200" y="1294920"/>
            <a:ext cx="7238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ff3300"/>
              </a:buClr>
              <a:buSzPct val="8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ff3300"/>
              </a:buClr>
              <a:buSzPct val="8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ff3300"/>
              </a:buClr>
              <a:buSzPct val="8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ff3300"/>
              </a:buClr>
              <a:buSzPct val="8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6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192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c192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600200" y="1294920"/>
            <a:ext cx="7238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ff3300"/>
              </a:buClr>
              <a:buSzPct val="8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ff3300"/>
              </a:buClr>
              <a:buSzPct val="8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ff3300"/>
              </a:buClr>
              <a:buSzPct val="8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ff3300"/>
              </a:buClr>
              <a:buSzPct val="8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nsf.gov/start.htm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sf.gov/start.htm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7.wmf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520" y="456840"/>
            <a:ext cx="716256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NSF Research Experiences for Teachers (RET)</a:t>
            </a:r>
            <a:br>
              <a:rPr sz="4000"/>
            </a:b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Professional Development</a:t>
            </a:r>
            <a:br>
              <a:rPr sz="3200"/>
            </a:br>
            <a:endParaRPr b="0" lang="en-US" sz="3200" spc="-1" strike="noStrike">
              <a:solidFill>
                <a:srgbClr val="fc192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752480" y="1980720"/>
            <a:ext cx="70106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 Coordinator:  Debbie Libe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 Teacher Leaders Presen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athryn Blanke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na Og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aron Debb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D Session 5:  Introduction to the RET Unit Templ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wards 61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versity of Cincinn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esday, November 5,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:30 – 6:30 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NSF Home P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848720" y="57150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1921"/>
                </a:solidFill>
                <a:latin typeface="Arial"/>
              </a:rPr>
              <a:t>             </a:t>
            </a:r>
            <a:r>
              <a:rPr b="0" lang="en-US" sz="3600" spc="-1" strike="noStrike">
                <a:solidFill>
                  <a:srgbClr val="fc1921"/>
                </a:solidFill>
                <a:latin typeface="Arial"/>
              </a:rPr>
              <a:t>Announcements</a:t>
            </a:r>
            <a:endParaRPr b="0" lang="en-US" sz="3600" spc="-1" strike="noStrike">
              <a:solidFill>
                <a:srgbClr val="fc1921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676160" y="144792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 PD Evaluations from 10/29/201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timelines are emailed today.  You can also provide hard cop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ion of pay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ip Lesson on CBL.  Helpful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uld you want an additional opportunity to meeting sometime in the winter? The purpose would be to share progress and experiences and use each other for feedba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C:\Users\Liberid\AppData\Local\Microsoft\Windows\Temporary Internet Files\Content.IE5\VVN3O128\MC900370352[1].wmf"/>
          <p:cNvPicPr/>
          <p:nvPr/>
        </p:nvPicPr>
        <p:blipFill>
          <a:blip r:embed="rId1"/>
          <a:stretch/>
        </p:blipFill>
        <p:spPr>
          <a:xfrm>
            <a:off x="228600" y="380880"/>
            <a:ext cx="16606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68520" y="-686160"/>
            <a:ext cx="72388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1921"/>
                </a:solidFill>
                <a:latin typeface="Arial"/>
              </a:rPr>
              <a:t>            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600" spc="-1" strike="noStrike">
                <a:solidFill>
                  <a:srgbClr val="fc1921"/>
                </a:solidFill>
                <a:latin typeface="Arial"/>
              </a:rPr>
              <a:t>Questions/Concerns/Complaints</a:t>
            </a:r>
            <a:br>
              <a:rPr sz="3600"/>
            </a:br>
            <a:br>
              <a:rPr sz="2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can we provide clarification, assistance and support? Are the concepts of  CBL, EDP and strategies for managing students through the Big Idea to the Challenge becoming clearer?</a:t>
            </a:r>
            <a:br>
              <a:rPr sz="2000"/>
            </a:br>
            <a:br>
              <a:rPr sz="2000"/>
            </a:br>
            <a:endParaRPr b="0" lang="en-US" sz="2800" spc="-1" strike="noStrike">
              <a:solidFill>
                <a:srgbClr val="fc1921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2286000" y="5410080"/>
            <a:ext cx="56466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Picture 8" descr="C:\Users\Debbie\AppData\Local\Microsoft\Windows\Temporary Internet Files\Content.IE5\GO4RKN9Z\MM900300588[1].gif"/>
          <p:cNvPicPr/>
          <p:nvPr/>
        </p:nvPicPr>
        <p:blipFill>
          <a:blip r:embed="rId1"/>
          <a:stretch/>
        </p:blipFill>
        <p:spPr>
          <a:xfrm>
            <a:off x="304920" y="457200"/>
            <a:ext cx="1185840" cy="1219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828440" y="4800240"/>
            <a:ext cx="5791320" cy="6094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3" descr="C:\Users\Debbie\AppData\Local\Microsoft\Windows\Temporary Internet Files\Content.IE5\H8IGCAL3\MC900410945[1].wmf"/>
          <p:cNvPicPr/>
          <p:nvPr/>
        </p:nvPicPr>
        <p:blipFill>
          <a:blip r:embed="rId3"/>
          <a:stretch/>
        </p:blipFill>
        <p:spPr>
          <a:xfrm>
            <a:off x="4495680" y="3886200"/>
            <a:ext cx="38563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fc1921"/>
                </a:solidFill>
                <a:latin typeface="Arial"/>
              </a:rPr>
              <a:t>Introduction to the Templates </a:t>
            </a:r>
            <a:br>
              <a:rPr sz="3200"/>
            </a:br>
            <a:r>
              <a:rPr b="1" lang="en" sz="3200" spc="-1" strike="noStrike">
                <a:solidFill>
                  <a:srgbClr val="fc1921"/>
                </a:solidFill>
                <a:latin typeface="Arial"/>
              </a:rPr>
              <a:t>and Naming Format:</a:t>
            </a:r>
            <a:br>
              <a:rPr sz="3200"/>
            </a:br>
            <a:r>
              <a:rPr b="0" lang="en" sz="3200" spc="-1" strike="noStrike">
                <a:solidFill>
                  <a:srgbClr val="fc1921"/>
                </a:solidFill>
                <a:latin typeface="Arial"/>
              </a:rPr>
              <a:t>Units and Activity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c192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72388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NSF Home P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8487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C:\Users\Debbie\AppData\Local\Microsoft\Windows\Temporary Internet Files\Content.IE5\H8IGCAL3\MC900295567[1].wmf"/>
          <p:cNvPicPr/>
          <p:nvPr/>
        </p:nvPicPr>
        <p:blipFill>
          <a:blip r:embed="rId3"/>
          <a:stretch/>
        </p:blipFill>
        <p:spPr>
          <a:xfrm>
            <a:off x="3200400" y="2362320"/>
            <a:ext cx="3657600" cy="39621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C:\Users\Debbie\AppData\Local\Microsoft\Windows\Temporary Internet Files\Content.IE5\W0ZSUBP6\MP900442390[1].jpg"/>
          <p:cNvPicPr/>
          <p:nvPr/>
        </p:nvPicPr>
        <p:blipFill>
          <a:blip r:embed="rId4"/>
          <a:stretch/>
        </p:blipFill>
        <p:spPr>
          <a:xfrm>
            <a:off x="380880" y="1066680"/>
            <a:ext cx="228600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1921"/>
                </a:solidFill>
                <a:latin typeface="Arial"/>
              </a:rPr>
              <a:t>                            </a:t>
            </a:r>
            <a:r>
              <a:rPr b="0" lang="en-US" sz="3200" spc="-1" strike="noStrike">
                <a:solidFill>
                  <a:srgbClr val="fc1921"/>
                </a:solidFill>
                <a:latin typeface="Arial"/>
              </a:rPr>
              <a:t>Agenda for Today</a:t>
            </a:r>
            <a:br>
              <a:rPr sz="3200"/>
            </a:br>
            <a:endParaRPr b="0" lang="en-US" sz="3200" spc="-1" strike="noStrike">
              <a:solidFill>
                <a:srgbClr val="fc192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2670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828440" y="1523880"/>
            <a:ext cx="708660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ff33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eshments, Announcements, Introduction of PD and Reminders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5 minu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ff33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s/Concerns/Complaints from Participa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5 minu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ff33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D – Introduction to the Templates and Naming Format   - Debbie Liberi, Kathryn Blankenship, Aaron Debbink, and Gina Ogden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5 minu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ff3300"/>
              </a:buClr>
              <a:buSzPct val="8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venger Hunt – Unit Templat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0 minu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ff3300"/>
              </a:buClr>
              <a:buSzPct val="8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development on Templat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 hour and 10 minu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ff3300"/>
              </a:buClr>
              <a:buSzPct val="8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s  – Next Step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5 minu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ff3300"/>
              </a:buClr>
              <a:buSzPct val="8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C:\Users\Debbie\AppData\Local\Microsoft\Windows\Temporary Internet Files\Content.IE5\H1BLGIFR\MC900217206[1].wmf"/>
          <p:cNvPicPr/>
          <p:nvPr/>
        </p:nvPicPr>
        <p:blipFill>
          <a:blip r:embed="rId1"/>
          <a:stretch/>
        </p:blipFill>
        <p:spPr>
          <a:xfrm>
            <a:off x="1523880" y="0"/>
            <a:ext cx="180972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6T18:16:45Z</dcterms:created>
  <dc:creator>University of Cincinnati</dc:creator>
  <dc:description/>
  <dc:language>en-US</dc:language>
  <cp:lastModifiedBy>Debora A Liberi</cp:lastModifiedBy>
  <cp:lastPrinted>2013-10-09T14:37:14Z</cp:lastPrinted>
  <dcterms:modified xsi:type="dcterms:W3CDTF">2013-11-05T18:43:19Z</dcterms:modified>
  <cp:revision>102</cp:revision>
  <dc:subject/>
  <dc:title>PowerPoint Presentation</dc:title>
</cp:coreProperties>
</file>