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20.gif" ContentType="image/gif"/>
  <Override PartName="/ppt/media/image5.png" ContentType="image/png"/>
  <Override PartName="/ppt/media/image7.png" ContentType="image/png"/>
  <Override PartName="/ppt/media/image1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6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9F22-4E44-4E1D-9380-3E0F23A69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B7BF-A361-4138-82B7-C0F821DF9D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9436-0197-4D1E-BED2-A7EB1C7404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C7D3-3235-433E-964B-373076D463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43F-DF57-4A1E-A4DD-C3E9D506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63240"/>
            <a:ext cx="78487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8320"/>
            <a:ext cx="78487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DCB2-5A65-481E-AC26-9ED16590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163240"/>
            <a:ext cx="383004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2163240"/>
            <a:ext cx="383004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8320"/>
            <a:ext cx="383004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018320"/>
            <a:ext cx="383004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FCA-1736-431D-8858-E9A2ED03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63240"/>
            <a:ext cx="25272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2163240"/>
            <a:ext cx="25272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2163240"/>
            <a:ext cx="25272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8320"/>
            <a:ext cx="25272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018320"/>
            <a:ext cx="25272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018320"/>
            <a:ext cx="25272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4E7-C858-4E7E-BD65-9D2226A7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D827-BD2A-459E-A5EE-74C89127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163240"/>
            <a:ext cx="7848720" cy="35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A947-AC45-4EDB-AA5F-5013CB73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63240"/>
            <a:ext cx="7848720" cy="35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DC2E-3226-40CD-BE2C-648BDFB0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163240"/>
            <a:ext cx="3830040" cy="35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2163240"/>
            <a:ext cx="3830040" cy="35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A040-2EAD-472C-A98D-7FF25D49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FBFA-2314-4E73-9AA8-49897733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188E-4EF3-407F-9512-E8B4FBDC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63240"/>
            <a:ext cx="383004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2163240"/>
            <a:ext cx="3830040" cy="35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18320"/>
            <a:ext cx="383004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2D81-C1CE-4D5A-B9D9-980F3C34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163240"/>
            <a:ext cx="7848720" cy="35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20B9-ECA4-4ABD-8C90-92E8A558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163240"/>
            <a:ext cx="3830040" cy="35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2163240"/>
            <a:ext cx="383004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018320"/>
            <a:ext cx="383004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9F30-A13B-4F98-A731-84DFE01A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63240"/>
            <a:ext cx="383004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2163240"/>
            <a:ext cx="383004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18320"/>
            <a:ext cx="78487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5085-D253-48DA-B550-DF3A322C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163240"/>
            <a:ext cx="78487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18320"/>
            <a:ext cx="78487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D5CD-F3B9-48E8-8618-B3B40571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63240"/>
            <a:ext cx="383004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2163240"/>
            <a:ext cx="383004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18320"/>
            <a:ext cx="383004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018320"/>
            <a:ext cx="383004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596F-9F88-4374-BC66-9A2EBB5A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63240"/>
            <a:ext cx="25272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2163240"/>
            <a:ext cx="25272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2163240"/>
            <a:ext cx="25272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18320"/>
            <a:ext cx="25272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018320"/>
            <a:ext cx="25272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018320"/>
            <a:ext cx="25272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2E23-7894-44D5-ADD6-54B8C761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163240"/>
            <a:ext cx="7848720" cy="35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FC4-9E1C-4664-A3D9-610215C8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163240"/>
            <a:ext cx="3830040" cy="35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2163240"/>
            <a:ext cx="3830040" cy="35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8449-CEE0-495E-BDBC-DCB111B8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05DC-DF0E-4FE8-B45F-1F2BA09C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FE44-B286-478D-86E0-DB069370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163240"/>
            <a:ext cx="383004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2163240"/>
            <a:ext cx="3830040" cy="35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8320"/>
            <a:ext cx="383004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43C-F536-406E-BBD6-A66C4421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163240"/>
            <a:ext cx="3830040" cy="35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2163240"/>
            <a:ext cx="383004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018320"/>
            <a:ext cx="383004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50E-9169-4254-B15D-A868CE3E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63240"/>
            <a:ext cx="383004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2163240"/>
            <a:ext cx="383004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8320"/>
            <a:ext cx="78487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96E-0CD1-4B2A-AD13-DC7C86C0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63240"/>
            <a:ext cx="7848720" cy="35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29080"/>
            <a:ext cx="1447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229080"/>
            <a:ext cx="243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EMS Resource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229080"/>
            <a:ext cx="1447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2C92-7F73-449E-8E99-7A235D9A0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9" descr="forUC09_96"/>
          <p:cNvPicPr/>
          <p:nvPr/>
        </p:nvPicPr>
        <p:blipFill>
          <a:blip r:embed="rId2"/>
          <a:stretch/>
        </p:blipFill>
        <p:spPr>
          <a:xfrm>
            <a:off x="0" y="0"/>
            <a:ext cx="9144000" cy="78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9" descr="forUC09_96"/>
          <p:cNvPicPr/>
          <p:nvPr/>
        </p:nvPicPr>
        <p:blipFill>
          <a:blip r:embed="rId2"/>
          <a:stretch/>
        </p:blipFill>
        <p:spPr>
          <a:xfrm>
            <a:off x="0" y="0"/>
            <a:ext cx="9144000" cy="781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163240"/>
            <a:ext cx="7848720" cy="35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52280" y="6324120"/>
            <a:ext cx="1447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352680" y="6324120"/>
            <a:ext cx="2438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EMS Resource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24120"/>
            <a:ext cx="1447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1600-FCBC-444C-A733-902D782EF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RET%20Templates/3.%20a.%20Unit%20Template.docx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Rounded Rectangle 41"/>
          <p:cNvGrpSpPr/>
          <p:nvPr/>
        </p:nvGrpSpPr>
        <p:grpSpPr>
          <a:xfrm>
            <a:off x="1554120" y="2712960"/>
            <a:ext cx="7413840" cy="3376800"/>
            <a:chOff x="1554120" y="2712960"/>
            <a:chExt cx="7413840" cy="3376800"/>
          </a:xfrm>
        </p:grpSpPr>
        <p:pic>
          <p:nvPicPr>
            <p:cNvPr id="92" name="Rounded Rectangle 41" descr=""/>
            <p:cNvPicPr/>
            <p:nvPr/>
          </p:nvPicPr>
          <p:blipFill>
            <a:blip r:embed="rId1"/>
            <a:stretch/>
          </p:blipFill>
          <p:spPr>
            <a:xfrm>
              <a:off x="1554120" y="2712960"/>
              <a:ext cx="7413840" cy="33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760400" y="2903400"/>
              <a:ext cx="6994800" cy="295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Title 4" descr=""/>
          <p:cNvPicPr/>
          <p:nvPr/>
        </p:nvPicPr>
        <p:blipFill>
          <a:blip r:embed="rId2"/>
          <a:stretch/>
        </p:blipFill>
        <p:spPr>
          <a:xfrm>
            <a:off x="689040" y="1523880"/>
            <a:ext cx="7772400" cy="14684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560" y="5866920"/>
            <a:ext cx="289548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 Jack Bro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tangle 8" descr=""/>
          <p:cNvPicPr/>
          <p:nvPr/>
        </p:nvPicPr>
        <p:blipFill>
          <a:blip r:embed="rId3"/>
          <a:stretch/>
        </p:blipFill>
        <p:spPr>
          <a:xfrm>
            <a:off x="3352680" y="3371760"/>
            <a:ext cx="2298960" cy="90828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9" descr=""/>
          <p:cNvPicPr/>
          <p:nvPr/>
        </p:nvPicPr>
        <p:blipFill>
          <a:blip r:embed="rId4"/>
          <a:stretch/>
        </p:blipFill>
        <p:spPr>
          <a:xfrm>
            <a:off x="5565600" y="3352680"/>
            <a:ext cx="2298960" cy="90828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10" descr=""/>
          <p:cNvPicPr/>
          <p:nvPr/>
        </p:nvPicPr>
        <p:blipFill>
          <a:blip r:embed="rId5"/>
          <a:stretch/>
        </p:blipFill>
        <p:spPr>
          <a:xfrm>
            <a:off x="2719440" y="4243320"/>
            <a:ext cx="1681200" cy="56664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13" descr=""/>
          <p:cNvPicPr/>
          <p:nvPr/>
        </p:nvPicPr>
        <p:blipFill>
          <a:blip r:embed="rId6"/>
          <a:stretch/>
        </p:blipFill>
        <p:spPr>
          <a:xfrm>
            <a:off x="3998880" y="4718160"/>
            <a:ext cx="1682640" cy="56664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14" descr=""/>
          <p:cNvPicPr/>
          <p:nvPr/>
        </p:nvPicPr>
        <p:blipFill>
          <a:blip r:embed="rId7"/>
          <a:stretch/>
        </p:blipFill>
        <p:spPr>
          <a:xfrm>
            <a:off x="5608800" y="4243320"/>
            <a:ext cx="1682640" cy="56664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15" descr=""/>
          <p:cNvPicPr/>
          <p:nvPr/>
        </p:nvPicPr>
        <p:blipFill>
          <a:blip r:embed="rId8"/>
          <a:stretch/>
        </p:blipFill>
        <p:spPr>
          <a:xfrm>
            <a:off x="6608880" y="4705200"/>
            <a:ext cx="1681200" cy="561960"/>
          </a:xfrm>
          <a:prstGeom prst="rect">
            <a:avLst/>
          </a:prstGeom>
          <a:ln w="0">
            <a:noFill/>
          </a:ln>
        </p:spPr>
      </p:pic>
      <p:cxnSp>
        <p:nvCxnSpPr>
          <p:cNvPr id="102" name="Straight Arrow Connector 21"/>
          <p:cNvCxnSpPr/>
          <p:nvPr/>
        </p:nvCxnSpPr>
        <p:spPr>
          <a:xfrm flipH="1">
            <a:off x="4968360" y="2590560"/>
            <a:ext cx="656640" cy="1067400"/>
          </a:xfrm>
          <a:prstGeom prst="straightConnector1">
            <a:avLst/>
          </a:prstGeom>
          <a:ln w="44280">
            <a:solidFill>
              <a:srgbClr val="e46c0a"/>
            </a:solidFill>
            <a:miter/>
            <a:tailEnd len="med" type="stealth" w="med"/>
          </a:ln>
        </p:spPr>
      </p:cxnSp>
      <p:cxnSp>
        <p:nvCxnSpPr>
          <p:cNvPr id="103" name="Straight Arrow Connector 22"/>
          <p:cNvCxnSpPr/>
          <p:nvPr/>
        </p:nvCxnSpPr>
        <p:spPr>
          <a:xfrm>
            <a:off x="6111720" y="2590560"/>
            <a:ext cx="656640" cy="1059480"/>
          </a:xfrm>
          <a:prstGeom prst="straightConnector1">
            <a:avLst/>
          </a:prstGeom>
          <a:ln w="44280">
            <a:solidFill>
              <a:srgbClr val="e46c0a"/>
            </a:solidFill>
            <a:miter/>
            <a:tailEnd len="med" type="stealth" w="med"/>
          </a:ln>
        </p:spPr>
      </p:cxnSp>
      <p:cxnSp>
        <p:nvCxnSpPr>
          <p:cNvPr id="104" name="Straight Arrow Connector 25"/>
          <p:cNvCxnSpPr/>
          <p:nvPr/>
        </p:nvCxnSpPr>
        <p:spPr>
          <a:xfrm flipH="1">
            <a:off x="3885480" y="4036680"/>
            <a:ext cx="305640" cy="230760"/>
          </a:xfrm>
          <a:prstGeom prst="straightConnector1">
            <a:avLst/>
          </a:prstGeom>
          <a:ln w="44280">
            <a:solidFill>
              <a:srgbClr val="e46c0a"/>
            </a:solidFill>
            <a:miter/>
            <a:tailEnd len="med" type="stealth" w="med"/>
          </a:ln>
        </p:spPr>
      </p:cxnSp>
      <p:cxnSp>
        <p:nvCxnSpPr>
          <p:cNvPr id="105" name="Straight Arrow Connector 28"/>
          <p:cNvCxnSpPr>
            <a:endCxn id="99" idx="0"/>
          </p:cNvCxnSpPr>
          <p:nvPr/>
        </p:nvCxnSpPr>
        <p:spPr>
          <a:xfrm>
            <a:off x="4592160" y="4036680"/>
            <a:ext cx="248400" cy="681840"/>
          </a:xfrm>
          <a:prstGeom prst="straightConnector1">
            <a:avLst/>
          </a:prstGeom>
          <a:ln w="44280">
            <a:solidFill>
              <a:srgbClr val="e46c0a"/>
            </a:solidFill>
            <a:miter/>
            <a:tailEnd len="med" type="stealth" w="med"/>
          </a:ln>
        </p:spPr>
      </p:cxnSp>
      <p:cxnSp>
        <p:nvCxnSpPr>
          <p:cNvPr id="106" name="Straight Arrow Connector 32"/>
          <p:cNvCxnSpPr/>
          <p:nvPr/>
        </p:nvCxnSpPr>
        <p:spPr>
          <a:xfrm flipH="1">
            <a:off x="6248160" y="4052520"/>
            <a:ext cx="202320" cy="214920"/>
          </a:xfrm>
          <a:prstGeom prst="straightConnector1">
            <a:avLst/>
          </a:prstGeom>
          <a:ln w="44280">
            <a:solidFill>
              <a:srgbClr val="e46c0a"/>
            </a:solidFill>
            <a:miter/>
            <a:tailEnd len="med" type="stealth" w="med"/>
          </a:ln>
        </p:spPr>
      </p:cxnSp>
      <p:cxnSp>
        <p:nvCxnSpPr>
          <p:cNvPr id="107" name="Straight Arrow Connector 37"/>
          <p:cNvCxnSpPr>
            <a:endCxn id="101" idx="0"/>
          </p:cNvCxnSpPr>
          <p:nvPr/>
        </p:nvCxnSpPr>
        <p:spPr>
          <a:xfrm>
            <a:off x="7230960" y="4052520"/>
            <a:ext cx="218880" cy="653040"/>
          </a:xfrm>
          <a:prstGeom prst="straightConnector1">
            <a:avLst/>
          </a:prstGeom>
          <a:ln w="44280">
            <a:solidFill>
              <a:srgbClr val="e46c0a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 CENA"/>
              </a:rPr>
              <a:t>Communication is the KEY</a:t>
            </a:r>
            <a:r>
              <a:rPr b="1" lang="en-US" sz="6500" spc="-1" strike="noStrike">
                <a:solidFill>
                  <a:srgbClr val="000000"/>
                </a:solidFill>
                <a:latin typeface="AR CENA"/>
              </a:rPr>
              <a:t> </a:t>
            </a:r>
            <a:endParaRPr b="1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C:\Users\gina\AppData\Local\Microsoft\Windows\Temporary Internet Files\Content.IE5\3EHP3C0F\MC900384028[1].wmf"/>
          <p:cNvPicPr/>
          <p:nvPr/>
        </p:nvPicPr>
        <p:blipFill>
          <a:blip r:embed="rId1"/>
          <a:stretch/>
        </p:blipFill>
        <p:spPr>
          <a:xfrm>
            <a:off x="7543800" y="1600200"/>
            <a:ext cx="1324080" cy="9572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3"/>
          <p:cNvSpPr/>
          <p:nvPr/>
        </p:nvSpPr>
        <p:spPr>
          <a:xfrm>
            <a:off x="685800" y="1600200"/>
            <a:ext cx="7467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 are all here to help you create an amazing u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Keep in contact with your RET Teacher Lea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e sure to submit your unit at least two weeks prior to implementation so revision can be made if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ave fun with your unit.  This may be the project that impacts your students for many ye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re all the RET deliverables?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9480" y="30481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bilities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s - Evalu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152280" y="6324480"/>
            <a:ext cx="144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352680" y="6324480"/>
            <a:ext cx="243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EMS Resource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7543800" y="6324480"/>
            <a:ext cx="144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07FB-147B-4E71-B0E1-48CD51A45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C:\Users\Debbie\Dropbox\Microsoft Clip Organizer\j0234700.gif"/>
          <p:cNvPicPr/>
          <p:nvPr/>
        </p:nvPicPr>
        <p:blipFill>
          <a:blip r:embed="rId1"/>
          <a:stretch/>
        </p:blipFill>
        <p:spPr>
          <a:xfrm>
            <a:off x="838080" y="3886200"/>
            <a:ext cx="22860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needs to be presented at the Culmination Event on April 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2163240"/>
            <a:ext cx="384804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Point on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 on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495680" y="2163240"/>
            <a:ext cx="419112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FSP Recip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Point on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 on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Date Placeholder 4"/>
          <p:cNvSpPr/>
          <p:nvPr/>
        </p:nvSpPr>
        <p:spPr>
          <a:xfrm>
            <a:off x="685800" y="6229440"/>
            <a:ext cx="144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3352680" y="6229440"/>
            <a:ext cx="243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EMS Resource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6"/>
          <p:cNvSpPr/>
          <p:nvPr/>
        </p:nvSpPr>
        <p:spPr>
          <a:xfrm>
            <a:off x="7086600" y="6229440"/>
            <a:ext cx="144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9E03-74E5-4819-AB51-09387BBDA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C:\Users\Liberid\AppData\Local\Microsoft\Windows\Temporary Internet Files\Content.IE5\VVN3O128\MC900289955[1].wmf"/>
          <p:cNvPicPr/>
          <p:nvPr/>
        </p:nvPicPr>
        <p:blipFill>
          <a:blip r:embed="rId1"/>
          <a:stretch/>
        </p:blipFill>
        <p:spPr>
          <a:xfrm>
            <a:off x="2743200" y="3962520"/>
            <a:ext cx="32004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15238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completion of this PD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hierarchy (Unit -&gt; Lesson -&gt; Activity -&gt;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the Unit templ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the Naming Conv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at content is required in the Unit tem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a sample Activity tem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constructing a sample Unit using the template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Units, Activities and Worksheets using the naming stand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9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9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152280" y="6324480"/>
            <a:ext cx="144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une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352680" y="6324480"/>
            <a:ext cx="243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EMS Resource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7543800" y="6324480"/>
            <a:ext cx="144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84A4-F87E-4242-9802-D6E16D0567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Users\Debbie\AppData\Local\Microsoft\Windows\Temporary Internet Files\Content.IE5\H8IGCAL3\MC900250922[1].wmf"/>
          <p:cNvPicPr/>
          <p:nvPr/>
        </p:nvPicPr>
        <p:blipFill>
          <a:blip r:embed="rId1"/>
          <a:stretch/>
        </p:blipFill>
        <p:spPr>
          <a:xfrm>
            <a:off x="6019920" y="838080"/>
            <a:ext cx="167616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ine the Templates: 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Uni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and Activ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re and why this form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t the RET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venger H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Users\Liberid\AppData\Local\Microsoft\Windows\Temporary Internet Files\Content.IE5\FGHG1QZT\MM900356589[1].gif"/>
          <p:cNvPicPr/>
          <p:nvPr/>
        </p:nvPicPr>
        <p:blipFill>
          <a:blip r:embed="rId2"/>
          <a:stretch/>
        </p:blipFill>
        <p:spPr>
          <a:xfrm>
            <a:off x="3505320" y="2647800"/>
            <a:ext cx="141120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t and Activity File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ming Conven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16324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naming standard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s relationship between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collaborators understand file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it easy to recognize the fil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152280" y="6324480"/>
            <a:ext cx="144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une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352680" y="6324480"/>
            <a:ext cx="243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EMS Resource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7543800" y="6324480"/>
            <a:ext cx="144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B33D-0C0B-4A1A-9EB8-4D45FBDEC5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Debbie\AppData\Local\Microsoft\Windows\Temporary Internet Files\Content.IE5\H8IGCAL3\MC900339826[1].wmf"/>
          <p:cNvPicPr/>
          <p:nvPr/>
        </p:nvPicPr>
        <p:blipFill>
          <a:blip r:embed="rId1"/>
          <a:stretch/>
        </p:blipFill>
        <p:spPr>
          <a:xfrm>
            <a:off x="457200" y="1905120"/>
            <a:ext cx="137160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Naming Standa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TextBox 3"/>
          <p:cNvGrpSpPr/>
          <p:nvPr/>
        </p:nvGrpSpPr>
        <p:grpSpPr>
          <a:xfrm>
            <a:off x="249120" y="3432240"/>
            <a:ext cx="8570880" cy="749160"/>
            <a:chOff x="249120" y="3432240"/>
            <a:chExt cx="8570880" cy="749160"/>
          </a:xfrm>
        </p:grpSpPr>
        <p:pic>
          <p:nvPicPr>
            <p:cNvPr id="125" name="TextBox 3" descr=""/>
            <p:cNvPicPr/>
            <p:nvPr/>
          </p:nvPicPr>
          <p:blipFill>
            <a:blip r:embed="rId1"/>
            <a:stretch/>
          </p:blipFill>
          <p:spPr>
            <a:xfrm>
              <a:off x="249120" y="3432240"/>
              <a:ext cx="85708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04920" y="3505320"/>
              <a:ext cx="84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.1.2a Projectile Motion_ProjMotionSim_MRitchey_0519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Line Callout 2 4"/>
          <p:cNvSpPr/>
          <p:nvPr/>
        </p:nvSpPr>
        <p:spPr>
          <a:xfrm>
            <a:off x="2928960" y="5410080"/>
            <a:ext cx="1295280" cy="914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74976"/>
              <a:gd name="adj6" fmla="val -20722"/>
            </a:avLst>
          </a:prstGeom>
          <a:solidFill>
            <a:srgbClr val="000000"/>
          </a:solidFill>
          <a:ln w="6660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Callout 2 6"/>
          <p:cNvSpPr/>
          <p:nvPr/>
        </p:nvSpPr>
        <p:spPr>
          <a:xfrm>
            <a:off x="5181480" y="5565600"/>
            <a:ext cx="1981440" cy="914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84236"/>
              <a:gd name="adj6" fmla="val -13750"/>
            </a:avLst>
          </a:prstGeom>
          <a:solidFill>
            <a:srgbClr val="000000"/>
          </a:solidFill>
          <a:ln w="6660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ity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Callout 2 7"/>
          <p:cNvSpPr/>
          <p:nvPr/>
        </p:nvSpPr>
        <p:spPr>
          <a:xfrm>
            <a:off x="7162920" y="4648320"/>
            <a:ext cx="1752480" cy="914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60833"/>
              <a:gd name="adj6" fmla="val -26078"/>
            </a:avLst>
          </a:prstGeom>
          <a:solidFill>
            <a:srgbClr val="000000"/>
          </a:solidFill>
          <a:ln w="6660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’s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Callout 2 8"/>
          <p:cNvSpPr/>
          <p:nvPr/>
        </p:nvSpPr>
        <p:spPr>
          <a:xfrm>
            <a:off x="533520" y="1676520"/>
            <a:ext cx="1295280" cy="914400"/>
          </a:xfrm>
          <a:prstGeom prst="borderCallout2">
            <a:avLst>
              <a:gd name="adj1" fmla="val 18750"/>
              <a:gd name="adj2" fmla="val -8333"/>
              <a:gd name="adj3" fmla="val 16930"/>
              <a:gd name="adj4" fmla="val -33351"/>
              <a:gd name="adj5" fmla="val 215527"/>
              <a:gd name="adj6" fmla="val 7509"/>
            </a:avLst>
          </a:prstGeom>
          <a:solidFill>
            <a:srgbClr val="000000"/>
          </a:solidFill>
          <a:ln w="6660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Callout 2 9"/>
          <p:cNvSpPr/>
          <p:nvPr/>
        </p:nvSpPr>
        <p:spPr>
          <a:xfrm>
            <a:off x="719280" y="4624560"/>
            <a:ext cx="1495440" cy="914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75379"/>
              <a:gd name="adj6" fmla="val 11865"/>
            </a:avLst>
          </a:prstGeom>
          <a:solidFill>
            <a:srgbClr val="000000"/>
          </a:solidFill>
          <a:ln w="6660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on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Callout 2 10"/>
          <p:cNvSpPr/>
          <p:nvPr/>
        </p:nvSpPr>
        <p:spPr>
          <a:xfrm>
            <a:off x="2154240" y="1940040"/>
            <a:ext cx="1495440" cy="914400"/>
          </a:xfrm>
          <a:prstGeom prst="borderCallout2">
            <a:avLst>
              <a:gd name="adj1" fmla="val 18750"/>
              <a:gd name="adj2" fmla="val -8333"/>
              <a:gd name="adj3" fmla="val 122384"/>
              <a:gd name="adj4" fmla="val -67800"/>
              <a:gd name="adj5" fmla="val 182800"/>
              <a:gd name="adj6" fmla="val -68171"/>
            </a:avLst>
          </a:prstGeom>
          <a:solidFill>
            <a:srgbClr val="000000"/>
          </a:solidFill>
          <a:ln w="6660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ity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ight Brace 5"/>
          <p:cNvSpPr/>
          <p:nvPr/>
        </p:nvSpPr>
        <p:spPr>
          <a:xfrm rot="5400000">
            <a:off x="2426400" y="3264840"/>
            <a:ext cx="495360" cy="2271600"/>
          </a:xfrm>
          <a:custGeom>
            <a:avLst/>
            <a:gdLst>
              <a:gd name="textAreaLeft" fmla="*/ 0 w 495360"/>
              <a:gd name="textAreaRight" fmla="*/ 178920 w 495360"/>
              <a:gd name="textAreaTop" fmla="*/ 12600 h 2271600"/>
              <a:gd name="textAreaBottom" fmla="*/ 2259000 h 22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6"/>
                  <a:pt x="10800" y="392"/>
                </a:cubicBezTo>
                <a:lnTo>
                  <a:pt x="10800" y="10408"/>
                </a:lnTo>
                <a:cubicBezTo>
                  <a:pt x="10800" y="10604"/>
                  <a:pt x="16200" y="10800"/>
                  <a:pt x="21600" y="10800"/>
                </a:cubicBezTo>
                <a:cubicBezTo>
                  <a:pt x="16200" y="10800"/>
                  <a:pt x="10800" y="10996"/>
                  <a:pt x="10800" y="11192"/>
                </a:cubicBezTo>
                <a:lnTo>
                  <a:pt x="10800" y="21208"/>
                </a:lnTo>
                <a:cubicBezTo>
                  <a:pt x="10800" y="2140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64a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ight Brace 12"/>
          <p:cNvSpPr/>
          <p:nvPr/>
        </p:nvSpPr>
        <p:spPr>
          <a:xfrm rot="5400000">
            <a:off x="4702320" y="3399480"/>
            <a:ext cx="486000" cy="1973160"/>
          </a:xfrm>
          <a:custGeom>
            <a:avLst/>
            <a:gdLst>
              <a:gd name="textAreaLeft" fmla="*/ 0 w 486000"/>
              <a:gd name="textAreaRight" fmla="*/ 175320 w 486000"/>
              <a:gd name="textAreaTop" fmla="*/ 12600 h 1973160"/>
              <a:gd name="textAreaBottom" fmla="*/ 1960560 h 197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2"/>
                  <a:pt x="10800" y="443"/>
                </a:cubicBezTo>
                <a:lnTo>
                  <a:pt x="10800" y="10357"/>
                </a:lnTo>
                <a:cubicBezTo>
                  <a:pt x="10800" y="10579"/>
                  <a:pt x="16200" y="10800"/>
                  <a:pt x="21600" y="10800"/>
                </a:cubicBezTo>
                <a:cubicBezTo>
                  <a:pt x="16200" y="10800"/>
                  <a:pt x="10800" y="11022"/>
                  <a:pt x="10800" y="11243"/>
                </a:cubicBezTo>
                <a:lnTo>
                  <a:pt x="10800" y="21157"/>
                </a:lnTo>
                <a:cubicBezTo>
                  <a:pt x="10800" y="2137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64a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Callout 2 13"/>
          <p:cNvSpPr/>
          <p:nvPr/>
        </p:nvSpPr>
        <p:spPr>
          <a:xfrm>
            <a:off x="4946760" y="2109960"/>
            <a:ext cx="2743200" cy="479160"/>
          </a:xfrm>
          <a:prstGeom prst="borderCallout2">
            <a:avLst>
              <a:gd name="adj1" fmla="val 18750"/>
              <a:gd name="adj2" fmla="val -8333"/>
              <a:gd name="adj3" fmla="val 24203"/>
              <a:gd name="adj4" fmla="val 131314"/>
              <a:gd name="adj5" fmla="val 314759"/>
              <a:gd name="adj6" fmla="val 115842"/>
            </a:avLst>
          </a:prstGeom>
          <a:solidFill>
            <a:srgbClr val="000000"/>
          </a:solidFill>
          <a:ln w="6660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Callout 2 14"/>
          <p:cNvSpPr/>
          <p:nvPr/>
        </p:nvSpPr>
        <p:spPr>
          <a:xfrm>
            <a:off x="3809880" y="2832120"/>
            <a:ext cx="2248200" cy="438120"/>
          </a:xfrm>
          <a:prstGeom prst="borderCallout2">
            <a:avLst>
              <a:gd name="adj1" fmla="val 18750"/>
              <a:gd name="adj2" fmla="val -8333"/>
              <a:gd name="adj3" fmla="val 84527"/>
              <a:gd name="adj4" fmla="val -89898"/>
              <a:gd name="adj5" fmla="val 196976"/>
              <a:gd name="adj6" fmla="val -105912"/>
            </a:avLst>
          </a:prstGeom>
          <a:solidFill>
            <a:srgbClr val="000000"/>
          </a:solidFill>
          <a:ln w="6660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2"/>
          <p:cNvSpPr/>
          <p:nvPr/>
        </p:nvSpPr>
        <p:spPr>
          <a:xfrm>
            <a:off x="152280" y="6324480"/>
            <a:ext cx="144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une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11"/>
          <p:cNvSpPr/>
          <p:nvPr/>
        </p:nvSpPr>
        <p:spPr>
          <a:xfrm>
            <a:off x="3352680" y="6324480"/>
            <a:ext cx="243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EMS Resource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15"/>
          <p:cNvSpPr/>
          <p:nvPr/>
        </p:nvSpPr>
        <p:spPr>
          <a:xfrm>
            <a:off x="7543800" y="6324480"/>
            <a:ext cx="144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E97B-ADCD-43C3-A8B4-28C47A2124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Do Those Numbers Mean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2666880"/>
            <a:ext cx="6705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umbere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umbered from 1 to M where M is the total number of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umbered 1 to N where N is the total number of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she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lettered from a to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152280" y="6324480"/>
            <a:ext cx="144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une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352680" y="6324480"/>
            <a:ext cx="243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EMS Resource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7543800" y="6324480"/>
            <a:ext cx="144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E218-58B0-4C4D-9A52-B03333C80B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TextBox 6"/>
          <p:cNvGrpSpPr/>
          <p:nvPr/>
        </p:nvGrpSpPr>
        <p:grpSpPr>
          <a:xfrm>
            <a:off x="6040440" y="2193840"/>
            <a:ext cx="2743200" cy="1177920"/>
            <a:chOff x="6040440" y="2193840"/>
            <a:chExt cx="2743200" cy="1177920"/>
          </a:xfrm>
        </p:grpSpPr>
        <p:pic>
          <p:nvPicPr>
            <p:cNvPr id="146" name="TextBox 6" descr=""/>
            <p:cNvPicPr/>
            <p:nvPr/>
          </p:nvPicPr>
          <p:blipFill>
            <a:blip r:embed="rId1"/>
            <a:stretch/>
          </p:blipFill>
          <p:spPr>
            <a:xfrm>
              <a:off x="6040440" y="2193840"/>
              <a:ext cx="274320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097680" y="2335320"/>
              <a:ext cx="263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1.1.2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Freeform 7"/>
          <p:cNvSpPr/>
          <p:nvPr/>
        </p:nvSpPr>
        <p:spPr>
          <a:xfrm>
            <a:off x="5286240" y="1805040"/>
            <a:ext cx="1513080" cy="1087560"/>
          </a:xfrm>
          <a:custGeom>
            <a:avLst/>
            <a:gdLst/>
            <a:ahLst/>
            <a:rect l="l" t="t" r="r" b="b"/>
            <a:pathLst>
              <a:path w="1512916" h="1087676">
                <a:moveTo>
                  <a:pt x="0" y="1087676"/>
                </a:moveTo>
                <a:cubicBezTo>
                  <a:pt x="306185" y="579214"/>
                  <a:pt x="612370" y="70753"/>
                  <a:pt x="864523" y="7022"/>
                </a:cubicBezTo>
                <a:cubicBezTo>
                  <a:pt x="1116676" y="-56709"/>
                  <a:pt x="1314796" y="324291"/>
                  <a:pt x="1512916" y="70529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9"/>
          <p:cNvSpPr/>
          <p:nvPr/>
        </p:nvSpPr>
        <p:spPr>
          <a:xfrm>
            <a:off x="6765840" y="2943360"/>
            <a:ext cx="500040" cy="714240"/>
          </a:xfrm>
          <a:custGeom>
            <a:avLst/>
            <a:gdLst/>
            <a:ahLst/>
            <a:rect l="l" t="t" r="r" b="b"/>
            <a:pathLst>
              <a:path w="498764" h="1130531">
                <a:moveTo>
                  <a:pt x="0" y="1130531"/>
                </a:moveTo>
                <a:lnTo>
                  <a:pt x="498764" y="0"/>
                </a:lnTo>
                <a:lnTo>
                  <a:pt x="49876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0"/>
          <p:cNvSpPr/>
          <p:nvPr/>
        </p:nvSpPr>
        <p:spPr>
          <a:xfrm>
            <a:off x="6234120" y="3025800"/>
            <a:ext cx="1539720" cy="1927080"/>
          </a:xfrm>
          <a:custGeom>
            <a:avLst/>
            <a:gdLst/>
            <a:ahLst/>
            <a:rect l="l" t="t" r="r" b="b"/>
            <a:pathLst>
              <a:path w="1539188" h="2293768">
                <a:moveTo>
                  <a:pt x="0" y="1995054"/>
                </a:moveTo>
                <a:cubicBezTo>
                  <a:pt x="558338" y="2227810"/>
                  <a:pt x="1116677" y="2460567"/>
                  <a:pt x="1363288" y="2128058"/>
                </a:cubicBezTo>
                <a:cubicBezTo>
                  <a:pt x="1609899" y="1795549"/>
                  <a:pt x="1544782" y="897774"/>
                  <a:pt x="1479666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1"/>
          <p:cNvSpPr/>
          <p:nvPr/>
        </p:nvSpPr>
        <p:spPr>
          <a:xfrm>
            <a:off x="6783480" y="2943360"/>
            <a:ext cx="1396800" cy="2543040"/>
          </a:xfrm>
          <a:custGeom>
            <a:avLst/>
            <a:gdLst/>
            <a:ahLst/>
            <a:rect l="l" t="t" r="r" b="b"/>
            <a:pathLst>
              <a:path w="1397218" h="2983963">
                <a:moveTo>
                  <a:pt x="0" y="2842953"/>
                </a:moveTo>
                <a:cubicBezTo>
                  <a:pt x="547255" y="2988425"/>
                  <a:pt x="1094510" y="3133898"/>
                  <a:pt x="1296786" y="2660073"/>
                </a:cubicBezTo>
                <a:cubicBezTo>
                  <a:pt x="1499062" y="2186248"/>
                  <a:pt x="1356360" y="1093124"/>
                  <a:pt x="1213659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 Example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orted in hierarchical ord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ate Placeholder 2"/>
          <p:cNvSpPr/>
          <p:nvPr/>
        </p:nvSpPr>
        <p:spPr>
          <a:xfrm>
            <a:off x="685800" y="6229440"/>
            <a:ext cx="144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une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3352680" y="6229440"/>
            <a:ext cx="243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EMS Resource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086600" y="6229440"/>
            <a:ext cx="144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47C3-2518-460A-AF64-7585202780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28600" y="1990800"/>
            <a:ext cx="8686800" cy="295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228600" y="2286000"/>
            <a:ext cx="8686800" cy="1219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91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.1.2b   Projectile Motion_ Simulation _ Worksheet_MRitchey_0522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262080" y="3505320"/>
            <a:ext cx="865332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380880" y="1905120"/>
            <a:ext cx="8534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>
              <a:lnSpc>
                <a:spcPct val="100000"/>
              </a:lnSpc>
              <a:tabLst>
                <a:tab algn="l" pos="0"/>
                <a:tab algn="l" pos="391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.0.0     Projectile Motion_Unit Plan_MRitchey_052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lnSpc>
                <a:spcPct val="100000"/>
              </a:lnSpc>
              <a:tabLst>
                <a:tab algn="l" pos="0"/>
                <a:tab algn="l" pos="391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.1.1     Projectile Motion_Big_Idea_Essential_Question_MRitchey_052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1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.1.1a   Projectile Motion_Essential_Question_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Calibri"/>
              </a:rPr>
              <a:t>Workshee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_MRitchey_052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1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.1.2     Projectile Motion _Simulation _MRitchey_052213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Lesson 1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.1.2b   Projectile Motion_ Simulation _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Calibri"/>
              </a:rPr>
              <a:t>Workshe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_MRitchey_052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1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1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.2.3     Projectile Motion_Popsicle_Catapault_MRitchey_052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1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.2.3c   Projectile Motion_ Popsicle_Catapault_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Calibri"/>
              </a:rPr>
              <a:t>Workshee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_MRitchey_052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1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.2.4     Projectile Motion_ Challenge_MRitchey_052213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Less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1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.2.4d  Projectile Motion_ Challenge_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Calibri"/>
              </a:rPr>
              <a:t>Workshee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_MRitchey_052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1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.2.4e   Projectile Motion_ Challenge_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  <a:ea typeface="Calibri"/>
              </a:rPr>
              <a:t>Record_Shee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_052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75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75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7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Rectangle 4"/>
          <p:cNvGrpSpPr/>
          <p:nvPr/>
        </p:nvGrpSpPr>
        <p:grpSpPr>
          <a:xfrm>
            <a:off x="219240" y="1133640"/>
            <a:ext cx="8785080" cy="4975200"/>
            <a:chOff x="219240" y="1133640"/>
            <a:chExt cx="8785080" cy="4975200"/>
          </a:xfrm>
        </p:grpSpPr>
        <p:pic>
          <p:nvPicPr>
            <p:cNvPr id="161" name="Rectangle 4" descr=""/>
            <p:cNvPicPr/>
            <p:nvPr/>
          </p:nvPicPr>
          <p:blipFill>
            <a:blip r:embed="rId1"/>
            <a:stretch/>
          </p:blipFill>
          <p:spPr>
            <a:xfrm>
              <a:off x="219240" y="1133640"/>
              <a:ext cx="8785080" cy="497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28600" y="1143000"/>
              <a:ext cx="8763120" cy="49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t – Activity - Workshee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C:\Users\Broering\AppData\Local\Temp\SNAGHTMLef3425b.PNG"/>
          <p:cNvPicPr/>
          <p:nvPr/>
        </p:nvPicPr>
        <p:blipFill>
          <a:blip r:embed="rId2"/>
          <a:stretch/>
        </p:blipFill>
        <p:spPr>
          <a:xfrm>
            <a:off x="304920" y="1752480"/>
            <a:ext cx="6356160" cy="2389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:\Users\Broering\AppData\Local\Temp\SNAGHTMLeeb6999.PNG"/>
          <p:cNvPicPr/>
          <p:nvPr/>
        </p:nvPicPr>
        <p:blipFill>
          <a:blip r:embed="rId3"/>
          <a:stretch/>
        </p:blipFill>
        <p:spPr>
          <a:xfrm>
            <a:off x="2362320" y="4267080"/>
            <a:ext cx="5638680" cy="2292480"/>
          </a:xfrm>
          <a:prstGeom prst="rect">
            <a:avLst/>
          </a:prstGeom>
          <a:ln w="0">
            <a:noFill/>
          </a:ln>
        </p:spPr>
      </p:pic>
      <p:sp>
        <p:nvSpPr>
          <p:cNvPr id="166" name="Date Placeholder 2"/>
          <p:cNvSpPr/>
          <p:nvPr/>
        </p:nvSpPr>
        <p:spPr>
          <a:xfrm>
            <a:off x="685800" y="6229440"/>
            <a:ext cx="144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une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5"/>
          <p:cNvSpPr/>
          <p:nvPr/>
        </p:nvSpPr>
        <p:spPr>
          <a:xfrm>
            <a:off x="3352680" y="6229440"/>
            <a:ext cx="243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EMS Resource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6"/>
          <p:cNvSpPr/>
          <p:nvPr/>
        </p:nvSpPr>
        <p:spPr>
          <a:xfrm>
            <a:off x="7086600" y="6229440"/>
            <a:ext cx="144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9764-A2A8-4777-A9AB-EBCC8367F8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to Nex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904760"/>
            <a:ext cx="85345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Develop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up your files to a remote source (memory stick, external hard drive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 other unit materials (doc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adding content to unit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feedback from RET Teacher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ate Placeholder 3"/>
          <p:cNvSpPr/>
          <p:nvPr/>
        </p:nvSpPr>
        <p:spPr>
          <a:xfrm>
            <a:off x="152280" y="6324480"/>
            <a:ext cx="144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une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352680" y="6324480"/>
            <a:ext cx="2438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EMS Resource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7543800" y="6324480"/>
            <a:ext cx="1447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F602-AAD2-4E88-8ED4-C7FCADB411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C:\Users\Liberid\AppData\Local\Microsoft\Windows\Temporary Internet Files\Content.IE5\ULI1QTBB\MC900300920[1].wmf"/>
          <p:cNvPicPr/>
          <p:nvPr/>
        </p:nvPicPr>
        <p:blipFill>
          <a:blip r:embed="rId1"/>
          <a:stretch/>
        </p:blipFill>
        <p:spPr>
          <a:xfrm>
            <a:off x="6858000" y="1219320"/>
            <a:ext cx="1066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21:04:34Z</dcterms:created>
  <dc:creator>denny</dc:creator>
  <dc:description/>
  <dc:language>en-US</dc:language>
  <cp:lastModifiedBy>Debora A Liberi</cp:lastModifiedBy>
  <cp:lastPrinted>2013-11-05T18:57:13Z</cp:lastPrinted>
  <dcterms:modified xsi:type="dcterms:W3CDTF">2013-11-06T14:38:04Z</dcterms:modified>
  <cp:revision>334</cp:revision>
  <dc:subject/>
  <dc:title>Slide 1</dc:title>
</cp:coreProperties>
</file>